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A4F-A33A-428F-9B8E-944C5751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033-1840-4EC2-94F8-AFDB6D2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882-EB89-49BD-B879-9B00979C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C94-8C3D-43A0-9AEE-631E79EB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1D5-62DF-4CB6-9808-7467466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D7A-6EAA-4C4C-A87E-3A87A931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87B-2B4E-4C13-ACA5-F21CEC2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3E2-E15E-4ADA-ABEE-26570946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15A-A5BB-4872-9268-79E1D835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E69-F190-4097-9B54-CD0EBD8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309-0324-4D50-BB96-505F292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A9A-2A97-452D-A296-BCEE72A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EB4DC-E019-4678-923D-B5A0640838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6CB76-B4AC-4D6E-8D60-9A28D6425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ich organelle contains DNA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200" spc="-1" strike="noStrike" u="sng">
                <a:solidFill>
                  <a:srgbClr val="000000"/>
                </a:solidFill>
                <a:uFillTx/>
                <a:latin typeface="Calibri"/>
              </a:rPr>
              <a:t>3.4 DNA Class Notes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DNA is a very large molecule that contains the instructions for how things should look and work in an organism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A gene is a small piece of DNA that determines a trait.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Traits are things about an organism’s appearance.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ype: AAGC = Rattlesnak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lor: AAGG = G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ze: TTGA = B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ender: AACC = Ma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ype: GGCD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lor: TCGA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ze: CCTG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ender: TAGG =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3:28Z</dcterms:created>
  <dc:creator>Caroline Roth</dc:creator>
  <dc:description/>
  <dc:language>en-US</dc:language>
  <cp:lastModifiedBy>Caroline Roth</cp:lastModifiedBy>
  <dcterms:modified xsi:type="dcterms:W3CDTF">2011-05-24T01:21:09Z</dcterms:modified>
  <cp:revision>4</cp:revision>
  <dc:subject/>
  <dc:title>3.4 DNA Class Notes</dc:title>
</cp:coreProperties>
</file>